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91DD1B-EB74-485B-98BA-2B56593B3A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497C50-C2B2-47A4-A5B1-CDDB35F649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EF1D50-B9D7-4F8B-87E8-E91FAA193D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CF4EDA-A473-4ED8-9691-6F92DC0F50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311F5C-8543-4A57-A6D6-87DD3F23EE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731308-6B73-4CBE-917D-311F03A400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CCFEF6-596E-4C76-9CF6-63500A464F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E19996-5128-4FBB-8318-D86FC70271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5149C6-1A3E-4BEE-93CF-80FB3CD31C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6AA695-2E84-448F-951B-7B0D680FD5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422ADD-FFCE-4FA1-9F0C-9CB9673D66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472DEC-6753-4AEC-A2C5-BBB3794901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B607DD-ECCF-4C30-97E9-2F97A93529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ECB6E9-C827-4AF0-87CD-1DD7B75E3D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586AA0-6EEC-4BA9-8F80-CEB5C7D5BB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C764D4-3709-464D-BE23-3D7EA05E70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B54A6D-7705-4BB5-BCB9-E5A0AC9191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3691A6-C231-4C0D-9246-8ACDED5B6B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1798FE-48DA-4795-BECE-8F86E4331A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74313-12E4-459C-B803-91BACC85EC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9981F-F7EB-4195-A3DF-937378F140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2A157-9FD0-4B0B-AF77-FFAB7B0C8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82A61-60CF-46C0-9BD2-734028001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9D67B-BE7C-49CF-9457-2DB11EE3BD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0" name=""/>
          <p:cNvGrpSpPr/>
          <p:nvPr/>
        </p:nvGrpSpPr>
        <p:grpSpPr>
          <a:xfrm>
            <a:off x="-291600" y="762120"/>
            <a:ext cx="7085520" cy="6863040"/>
            <a:chOff x="-291600" y="762120"/>
            <a:chExt cx="7085520" cy="6863040"/>
          </a:xfrm>
        </p:grpSpPr>
        <p:grpSp>
          <p:nvGrpSpPr>
            <p:cNvPr id="1" name=""/>
            <p:cNvGrpSpPr/>
            <p:nvPr/>
          </p:nvGrpSpPr>
          <p:grpSpPr>
            <a:xfrm>
              <a:off x="-291600" y="762120"/>
              <a:ext cx="7085520" cy="6863040"/>
              <a:chOff x="-291600" y="762120"/>
              <a:chExt cx="7085520" cy="6863040"/>
            </a:xfrm>
          </p:grpSpPr>
          <p:grpSp>
            <p:nvGrpSpPr>
              <p:cNvPr id="2" name=""/>
              <p:cNvGrpSpPr/>
              <p:nvPr/>
            </p:nvGrpSpPr>
            <p:grpSpPr>
              <a:xfrm>
                <a:off x="-291600" y="762120"/>
                <a:ext cx="7085520" cy="6863040"/>
                <a:chOff x="-291600" y="762120"/>
                <a:chExt cx="7085520" cy="6863040"/>
              </a:xfrm>
            </p:grpSpPr>
            <p:sp>
              <p:nvSpPr>
                <p:cNvPr id="3" name=""/>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291600" y="762120"/>
                  <a:ext cx="7085520" cy="6863040"/>
                  <a:chOff x="-291600" y="762120"/>
                  <a:chExt cx="7085520" cy="6863040"/>
                </a:xfrm>
              </p:grpSpPr>
              <p:sp>
                <p:nvSpPr>
                  <p:cNvPr id="5" name=""/>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 name=""/>
                  <p:cNvGrpSpPr/>
                  <p:nvPr/>
                </p:nvGrpSpPr>
                <p:grpSpPr>
                  <a:xfrm>
                    <a:off x="-291600" y="762120"/>
                    <a:ext cx="7085520" cy="6863040"/>
                    <a:chOff x="-291600" y="762120"/>
                    <a:chExt cx="7085520" cy="6863040"/>
                  </a:xfrm>
                </p:grpSpPr>
                <p:sp>
                  <p:nvSpPr>
                    <p:cNvPr id="9" name=""/>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 name=""/>
                    <p:cNvGrpSpPr/>
                    <p:nvPr/>
                  </p:nvGrpSpPr>
                  <p:grpSpPr>
                    <a:xfrm>
                      <a:off x="-291600" y="769320"/>
                      <a:ext cx="7075800" cy="6855840"/>
                      <a:chOff x="-291600" y="769320"/>
                      <a:chExt cx="7075800" cy="6855840"/>
                    </a:xfrm>
                  </p:grpSpPr>
                  <p:sp>
                    <p:nvSpPr>
                      <p:cNvPr id="11" name=""/>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 name=""/>
                      <p:cNvGrpSpPr/>
                      <p:nvPr/>
                    </p:nvGrpSpPr>
                    <p:grpSpPr>
                      <a:xfrm>
                        <a:off x="-291600" y="769320"/>
                        <a:ext cx="7075800" cy="6855840"/>
                        <a:chOff x="-291600" y="769320"/>
                        <a:chExt cx="7075800" cy="6855840"/>
                      </a:xfrm>
                    </p:grpSpPr>
                    <p:sp>
                      <p:nvSpPr>
                        <p:cNvPr id="13" name=""/>
                        <p:cNvSpPr/>
                        <p:nvPr/>
                      </p:nvSpPr>
                      <p:spPr>
                        <a:xfrm flipH="1" flipV="1">
                          <a:off x="2242080" y="93204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flipH="1" flipV="1">
                          <a:off x="11520" y="261396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flipH="1" flipV="1">
                          <a:off x="25920" y="222696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flipH="1" flipV="1">
                          <a:off x="25200" y="174096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flipH="1" flipV="1">
                          <a:off x="40320" y="117108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flipH="1" flipV="1">
                          <a:off x="1109880" y="76932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flipH="1" flipV="1">
                          <a:off x="27000" y="297612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flipH="1" flipV="1">
                          <a:off x="23040" y="328680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flipH="1">
                          <a:off x="669960" y="474480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flipH="1" flipV="1">
                          <a:off x="203760" y="452520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flipH="1" flipV="1">
                          <a:off x="26640" y="382104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flipH="1">
                          <a:off x="1557360" y="482112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flipH="1">
                          <a:off x="1686240" y="483192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flipH="1">
                          <a:off x="1805760" y="483264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flipH="1">
                          <a:off x="1935000" y="483768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flipH="1">
                          <a:off x="2082960" y="484812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flipH="1">
                          <a:off x="2230920" y="485172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flipH="1">
                          <a:off x="2595240" y="487188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615400" y="487548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2633040" y="488520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653560" y="488664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2673720" y="488664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684880" y="488556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2709720" y="489168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2726640" y="488412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749320" y="487980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2760840" y="486468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2766960" y="485172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2779200" y="484128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2785320" y="482436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2786400" y="480744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2789280" y="478980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2780280" y="474624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flipV="1">
                          <a:off x="2741400" y="379872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flipV="1">
                          <a:off x="2728800" y="327996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 name=""/>
                        <p:cNvGrpSpPr/>
                        <p:nvPr/>
                      </p:nvGrpSpPr>
                      <p:grpSpPr>
                        <a:xfrm>
                          <a:off x="-291600" y="1247400"/>
                          <a:ext cx="6462720" cy="6377760"/>
                          <a:chOff x="-291600" y="1247400"/>
                          <a:chExt cx="6462720" cy="6377760"/>
                        </a:xfrm>
                      </p:grpSpPr>
                      <p:sp>
                        <p:nvSpPr>
                          <p:cNvPr id="50" name=""/>
                          <p:cNvSpPr/>
                          <p:nvPr/>
                        </p:nvSpPr>
                        <p:spPr>
                          <a:xfrm rot="18780000">
                            <a:off x="2468520" y="448560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
                          <p:cNvSpPr/>
                          <p:nvPr/>
                        </p:nvSpPr>
                        <p:spPr>
                          <a:xfrm rot="18780000">
                            <a:off x="2382120" y="429228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
                          <p:cNvSpPr/>
                          <p:nvPr/>
                        </p:nvSpPr>
                        <p:spPr>
                          <a:xfrm rot="18780000">
                            <a:off x="2262960" y="399528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
                          <p:cNvSpPr/>
                          <p:nvPr/>
                        </p:nvSpPr>
                        <p:spPr>
                          <a:xfrm rot="18780000">
                            <a:off x="2170800" y="373644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
                          <p:cNvSpPr/>
                          <p:nvPr/>
                        </p:nvSpPr>
                        <p:spPr>
                          <a:xfrm rot="18780000">
                            <a:off x="2071800" y="342036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
                          <p:cNvSpPr/>
                          <p:nvPr/>
                        </p:nvSpPr>
                        <p:spPr>
                          <a:xfrm rot="18780000">
                            <a:off x="1981080" y="316584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
                          <p:cNvSpPr/>
                          <p:nvPr/>
                        </p:nvSpPr>
                        <p:spPr>
                          <a:xfrm rot="18780000">
                            <a:off x="1850760" y="289188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
                          <p:cNvSpPr/>
                          <p:nvPr/>
                        </p:nvSpPr>
                        <p:spPr>
                          <a:xfrm rot="18780000">
                            <a:off x="1738800" y="262260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 name=""/>
                          <p:cNvSpPr/>
                          <p:nvPr/>
                        </p:nvSpPr>
                        <p:spPr>
                          <a:xfrm rot="18780000">
                            <a:off x="1602000" y="236880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rot="18780000">
                            <a:off x="1498680" y="208476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 name=""/>
                          <p:cNvSpPr/>
                          <p:nvPr/>
                        </p:nvSpPr>
                        <p:spPr>
                          <a:xfrm rot="18734400">
                            <a:off x="1408320" y="181224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 name=""/>
                          <p:cNvSpPr/>
                          <p:nvPr/>
                        </p:nvSpPr>
                        <p:spPr>
                          <a:xfrm rot="18819600">
                            <a:off x="1313280" y="152136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2" name=""/>
                        <p:cNvSpPr/>
                        <p:nvPr/>
                      </p:nvSpPr>
                      <p:spPr>
                        <a:xfrm flipV="1">
                          <a:off x="2654280" y="178092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flipV="1">
                          <a:off x="2666520" y="213300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flipV="1">
                          <a:off x="2668320" y="193608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flipV="1">
                          <a:off x="2676960" y="229320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flipV="1">
                          <a:off x="2683800" y="246852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flipV="1">
                          <a:off x="2703960" y="288504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flipV="1">
                          <a:off x="2716920" y="309600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flipV="1">
                          <a:off x="2737800" y="355716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flipV="1">
                          <a:off x="2750040" y="404424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flipV="1">
                          <a:off x="2754720" y="437760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flipV="1">
                          <a:off x="2752920" y="470376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3" name=""/>
                        <p:cNvSpPr/>
                        <p:nvPr/>
                      </p:nvSpPr>
                      <p:spPr>
                        <a:xfrm>
                          <a:off x="2769840" y="472464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787840" y="476856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flipH="1">
                          <a:off x="2415240" y="486252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flipH="1">
                          <a:off x="1447920" y="480960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flipH="1">
                          <a:off x="1337040" y="479772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flipH="1">
                          <a:off x="1218960" y="478944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flipH="1">
                          <a:off x="1115640" y="477864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flipH="1">
                          <a:off x="1009440" y="477144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flipH="1">
                          <a:off x="897480" y="476136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flipH="1">
                          <a:off x="783000" y="475200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flipH="1">
                          <a:off x="566280" y="473364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flipH="1">
                          <a:off x="443520" y="472392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flipH="1">
                          <a:off x="317880" y="471096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6" name=""/>
                        <p:cNvSpPr/>
                        <p:nvPr/>
                      </p:nvSpPr>
                      <p:spPr>
                        <a:xfrm flipH="1" flipV="1">
                          <a:off x="65880" y="429768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flipH="1" flipV="1">
                          <a:off x="25560" y="406296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flipH="1" flipV="1">
                          <a:off x="23760" y="355932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flipH="1" flipV="1">
                          <a:off x="362880" y="97200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flipH="1" flipV="1">
                          <a:off x="722880" y="83232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flipH="1" flipV="1">
                          <a:off x="1506240" y="78732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flipH="1" flipV="1">
                          <a:off x="1857240" y="83916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flipV="1">
                          <a:off x="2576880" y="104292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flipV="1">
                          <a:off x="2597400" y="116748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flipV="1">
                          <a:off x="2608920" y="131112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flipV="1">
                          <a:off x="2622240" y="146160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flipV="1">
                          <a:off x="2635920" y="162648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98" name=""/>
              <p:cNvGrpSpPr/>
              <p:nvPr/>
            </p:nvGrpSpPr>
            <p:grpSpPr>
              <a:xfrm>
                <a:off x="28080" y="2679120"/>
                <a:ext cx="5018040" cy="4112280"/>
                <a:chOff x="28080" y="2679120"/>
                <a:chExt cx="5018040" cy="4112280"/>
              </a:xfrm>
            </p:grpSpPr>
            <p:sp>
              <p:nvSpPr>
                <p:cNvPr id="99" name=""/>
                <p:cNvSpPr/>
                <p:nvPr/>
              </p:nvSpPr>
              <p:spPr>
                <a:xfrm flipV="1">
                  <a:off x="2696040" y="267912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flipH="1" flipV="1">
                  <a:off x="1405440" y="605160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1" name=""/>
                <p:cNvGrpSpPr/>
                <p:nvPr/>
              </p:nvGrpSpPr>
              <p:grpSpPr>
                <a:xfrm>
                  <a:off x="28080" y="4279680"/>
                  <a:ext cx="2090160" cy="2511720"/>
                  <a:chOff x="28080" y="4279680"/>
                  <a:chExt cx="2090160" cy="2511720"/>
                </a:xfrm>
              </p:grpSpPr>
              <p:sp>
                <p:nvSpPr>
                  <p:cNvPr id="102" name=""/>
                  <p:cNvSpPr/>
                  <p:nvPr/>
                </p:nvSpPr>
                <p:spPr>
                  <a:xfrm flipH="1">
                    <a:off x="1131120" y="605304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flipH="1">
                    <a:off x="1996560" y="665028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flipH="1" flipV="1">
                    <a:off x="564120" y="575640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flipH="1" flipV="1">
                    <a:off x="401040" y="485640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flipH="1" flipV="1">
                    <a:off x="28080" y="471024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V="1">
                    <a:off x="110520" y="485604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flipH="1">
                    <a:off x="558000" y="545148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flipV="1">
                    <a:off x="29520" y="427968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111" name=""/>
            <p:cNvGrpSpPr/>
            <p:nvPr/>
          </p:nvGrpSpPr>
          <p:grpSpPr>
            <a:xfrm>
              <a:off x="25560" y="2104920"/>
              <a:ext cx="5221080" cy="4680000"/>
              <a:chOff x="25560" y="2104920"/>
              <a:chExt cx="5221080" cy="4680000"/>
            </a:xfrm>
          </p:grpSpPr>
          <p:sp>
            <p:nvSpPr>
              <p:cNvPr id="112" name=""/>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rot="19111200">
                <a:off x="3156120" y="304596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5" name=""/>
              <p:cNvSpPr/>
              <p:nvPr/>
            </p:nvSpPr>
            <p:spPr>
              <a:xfrm rot="16512000">
                <a:off x="3117600" y="414828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6" name=""/>
              <p:cNvSpPr/>
              <p:nvPr/>
            </p:nvSpPr>
            <p:spPr>
              <a:xfrm rot="18182400">
                <a:off x="1616760" y="427716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7" name=""/>
              <p:cNvSpPr/>
              <p:nvPr/>
            </p:nvSpPr>
            <p:spPr>
              <a:xfrm rot="20763600">
                <a:off x="1091880" y="277452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118" name=""/>
              <p:cNvGrpSpPr/>
              <p:nvPr/>
            </p:nvGrpSpPr>
            <p:grpSpPr>
              <a:xfrm>
                <a:off x="4752000" y="2104920"/>
                <a:ext cx="494640" cy="493560"/>
                <a:chOff x="4752000" y="2104920"/>
                <a:chExt cx="494640" cy="493560"/>
              </a:xfrm>
            </p:grpSpPr>
            <p:sp>
              <p:nvSpPr>
                <p:cNvPr id="119" name=""/>
                <p:cNvSpPr/>
                <p:nvPr/>
              </p:nvSpPr>
              <p:spPr>
                <a:xfrm rot="2828400">
                  <a:off x="4767480" y="233136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FE2FE-B988-4AC5-91C5-2A10AFD3AC1D}"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165" name=""/>
          <p:cNvGrpSpPr/>
          <p:nvPr/>
        </p:nvGrpSpPr>
        <p:grpSpPr>
          <a:xfrm>
            <a:off x="-315360" y="798480"/>
            <a:ext cx="7085520" cy="6863040"/>
            <a:chOff x="-315360" y="798480"/>
            <a:chExt cx="7085520" cy="6863040"/>
          </a:xfrm>
        </p:grpSpPr>
        <p:grpSp>
          <p:nvGrpSpPr>
            <p:cNvPr id="166" name=""/>
            <p:cNvGrpSpPr/>
            <p:nvPr/>
          </p:nvGrpSpPr>
          <p:grpSpPr>
            <a:xfrm>
              <a:off x="-315360" y="798480"/>
              <a:ext cx="7085520" cy="6863040"/>
              <a:chOff x="-315360" y="798480"/>
              <a:chExt cx="7085520" cy="6863040"/>
            </a:xfrm>
          </p:grpSpPr>
          <p:grpSp>
            <p:nvGrpSpPr>
              <p:cNvPr id="167" name=""/>
              <p:cNvGrpSpPr/>
              <p:nvPr/>
            </p:nvGrpSpPr>
            <p:grpSpPr>
              <a:xfrm>
                <a:off x="-315360" y="798480"/>
                <a:ext cx="7085520" cy="6863040"/>
                <a:chOff x="-315360" y="798480"/>
                <a:chExt cx="7085520" cy="6863040"/>
              </a:xfrm>
            </p:grpSpPr>
            <p:sp>
              <p:nvSpPr>
                <p:cNvPr id="168" name=""/>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9" name=""/>
                <p:cNvGrpSpPr/>
                <p:nvPr/>
              </p:nvGrpSpPr>
              <p:grpSpPr>
                <a:xfrm>
                  <a:off x="-315360" y="798480"/>
                  <a:ext cx="7085520" cy="6863040"/>
                  <a:chOff x="-315360" y="798480"/>
                  <a:chExt cx="7085520" cy="6863040"/>
                </a:xfrm>
              </p:grpSpPr>
              <p:sp>
                <p:nvSpPr>
                  <p:cNvPr id="170" name=""/>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315360" y="798480"/>
                    <a:ext cx="7085520" cy="6863040"/>
                    <a:chOff x="-315360" y="798480"/>
                    <a:chExt cx="7085520" cy="6863040"/>
                  </a:xfrm>
                </p:grpSpPr>
                <p:sp>
                  <p:nvSpPr>
                    <p:cNvPr id="174" name=""/>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
                    <p:cNvGrpSpPr/>
                    <p:nvPr/>
                  </p:nvGrpSpPr>
                  <p:grpSpPr>
                    <a:xfrm>
                      <a:off x="-315360" y="805680"/>
                      <a:ext cx="7075800" cy="6855840"/>
                      <a:chOff x="-315360" y="805680"/>
                      <a:chExt cx="7075800" cy="6855840"/>
                    </a:xfrm>
                  </p:grpSpPr>
                  <p:sp>
                    <p:nvSpPr>
                      <p:cNvPr id="176" name=""/>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7" name=""/>
                      <p:cNvGrpSpPr/>
                      <p:nvPr/>
                    </p:nvGrpSpPr>
                    <p:grpSpPr>
                      <a:xfrm>
                        <a:off x="-315360" y="805680"/>
                        <a:ext cx="7075800" cy="6855840"/>
                        <a:chOff x="-315360" y="805680"/>
                        <a:chExt cx="7075800" cy="6855840"/>
                      </a:xfrm>
                    </p:grpSpPr>
                    <p:sp>
                      <p:nvSpPr>
                        <p:cNvPr id="178" name=""/>
                        <p:cNvSpPr/>
                        <p:nvPr/>
                      </p:nvSpPr>
                      <p:spPr>
                        <a:xfrm flipH="1" flipV="1">
                          <a:off x="2218320" y="96840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flipH="1" flipV="1">
                          <a:off x="-12240" y="265032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flipH="1" flipV="1">
                          <a:off x="2160" y="226332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flipH="1" flipV="1">
                          <a:off x="1440" y="177732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flipH="1" flipV="1">
                          <a:off x="16560" y="120744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flipH="1" flipV="1">
                          <a:off x="1086120" y="80568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flipH="1" flipV="1">
                          <a:off x="3240" y="301248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flipH="1" flipV="1">
                          <a:off x="-720" y="332316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flipH="1">
                          <a:off x="646200" y="478116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flipH="1" flipV="1">
                          <a:off x="180000" y="456156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flipH="1" flipV="1">
                          <a:off x="2880" y="385740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flipH="1">
                          <a:off x="1533600" y="485748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flipH="1">
                          <a:off x="1662480" y="486828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flipH="1">
                          <a:off x="1782000" y="486900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flipH="1">
                          <a:off x="1911240" y="487404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flipH="1">
                          <a:off x="2059200" y="488448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flipH="1">
                          <a:off x="2207160" y="488808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flipH="1">
                          <a:off x="2571480" y="490824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2591640" y="491184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2609280" y="492156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2629800" y="492300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2649960" y="492300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2661120" y="492192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2685960" y="492804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2702880" y="492048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2725560" y="491616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2737080" y="490104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2743200" y="488808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2755440" y="487764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2761560" y="486072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2762640" y="484380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2765520" y="482616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2756520" y="478260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flipV="1">
                          <a:off x="2717640" y="383508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flipV="1">
                          <a:off x="2705040" y="331632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4" name=""/>
                        <p:cNvGrpSpPr/>
                        <p:nvPr/>
                      </p:nvGrpSpPr>
                      <p:grpSpPr>
                        <a:xfrm>
                          <a:off x="-315360" y="1283760"/>
                          <a:ext cx="6462720" cy="6377760"/>
                          <a:chOff x="-315360" y="1283760"/>
                          <a:chExt cx="6462720" cy="6377760"/>
                        </a:xfrm>
                      </p:grpSpPr>
                      <p:sp>
                        <p:nvSpPr>
                          <p:cNvPr id="215" name=""/>
                          <p:cNvSpPr/>
                          <p:nvPr/>
                        </p:nvSpPr>
                        <p:spPr>
                          <a:xfrm rot="18780000">
                            <a:off x="2444760" y="452196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rot="18780000">
                            <a:off x="2358360" y="432864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rot="18780000">
                            <a:off x="2239200" y="403164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rot="18780000">
                            <a:off x="2147040" y="377280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rot="18780000">
                            <a:off x="2048040" y="345672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rot="18780000">
                            <a:off x="1957320" y="320220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rot="18780000">
                            <a:off x="1827000" y="292824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rot="18780000">
                            <a:off x="1715040" y="265896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rot="18780000">
                            <a:off x="1578240" y="240516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rot="18780000">
                            <a:off x="1474920" y="212112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rot="18734400">
                            <a:off x="1384560" y="184860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rot="18819600">
                            <a:off x="1289520" y="155772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27" name=""/>
                        <p:cNvSpPr/>
                        <p:nvPr/>
                      </p:nvSpPr>
                      <p:spPr>
                        <a:xfrm flipV="1">
                          <a:off x="2630520" y="181728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flipV="1">
                          <a:off x="2642760" y="216936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flipV="1">
                          <a:off x="2644560" y="197244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flipV="1">
                          <a:off x="2653200" y="232956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flipV="1">
                          <a:off x="2660040" y="250488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flipV="1">
                          <a:off x="2680200" y="292140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flipV="1">
                          <a:off x="2693160" y="313236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flipV="1">
                          <a:off x="2714040" y="359352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flipV="1">
                          <a:off x="2726280" y="408060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flipV="1">
                          <a:off x="2730960" y="441396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flipV="1">
                          <a:off x="2729160" y="474012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238" name=""/>
                        <p:cNvSpPr/>
                        <p:nvPr/>
                      </p:nvSpPr>
                      <p:spPr>
                        <a:xfrm>
                          <a:off x="2746080" y="476100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2764080" y="480492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flipH="1">
                          <a:off x="2391480" y="489888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flipH="1">
                          <a:off x="1424160" y="484596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flipH="1">
                          <a:off x="1313280" y="483408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flipH="1">
                          <a:off x="1195200" y="482580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flipH="1">
                          <a:off x="1091880" y="481500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flipH="1">
                          <a:off x="985680" y="480780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flipH="1">
                          <a:off x="873720" y="479772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flipH="1">
                          <a:off x="759240" y="478836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flipH="1">
                          <a:off x="542520" y="477000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flipH="1">
                          <a:off x="419760" y="476028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flipH="1">
                          <a:off x="294120" y="474732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51" name=""/>
                        <p:cNvSpPr/>
                        <p:nvPr/>
                      </p:nvSpPr>
                      <p:spPr>
                        <a:xfrm flipH="1" flipV="1">
                          <a:off x="42120" y="433404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flipH="1" flipV="1">
                          <a:off x="1800" y="409932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flipH="1" flipV="1">
                          <a:off x="0" y="359568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flipH="1" flipV="1">
                          <a:off x="339120" y="100836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flipH="1" flipV="1">
                          <a:off x="699120" y="86868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flipH="1" flipV="1">
                          <a:off x="1482480" y="82368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flipH="1" flipV="1">
                          <a:off x="1833480" y="87552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flipV="1">
                          <a:off x="2553120" y="107928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flipV="1">
                          <a:off x="2573640" y="120384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flipV="1">
                          <a:off x="2585160" y="134748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flipV="1">
                          <a:off x="2598480" y="149796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flipV="1">
                          <a:off x="2612160" y="166284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263" name=""/>
              <p:cNvGrpSpPr/>
              <p:nvPr/>
            </p:nvGrpSpPr>
            <p:grpSpPr>
              <a:xfrm>
                <a:off x="4320" y="2715480"/>
                <a:ext cx="5018040" cy="4112280"/>
                <a:chOff x="4320" y="2715480"/>
                <a:chExt cx="5018040" cy="4112280"/>
              </a:xfrm>
            </p:grpSpPr>
            <p:sp>
              <p:nvSpPr>
                <p:cNvPr id="264" name=""/>
                <p:cNvSpPr/>
                <p:nvPr/>
              </p:nvSpPr>
              <p:spPr>
                <a:xfrm flipV="1">
                  <a:off x="2672280" y="271548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flipH="1" flipV="1">
                  <a:off x="1381680" y="608796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6" name=""/>
                <p:cNvGrpSpPr/>
                <p:nvPr/>
              </p:nvGrpSpPr>
              <p:grpSpPr>
                <a:xfrm>
                  <a:off x="4320" y="4316040"/>
                  <a:ext cx="2090160" cy="2511720"/>
                  <a:chOff x="4320" y="4316040"/>
                  <a:chExt cx="2090160" cy="2511720"/>
                </a:xfrm>
              </p:grpSpPr>
              <p:sp>
                <p:nvSpPr>
                  <p:cNvPr id="267" name=""/>
                  <p:cNvSpPr/>
                  <p:nvPr/>
                </p:nvSpPr>
                <p:spPr>
                  <a:xfrm flipH="1">
                    <a:off x="1107360" y="608940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flipH="1">
                    <a:off x="1972800" y="668664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flipH="1" flipV="1">
                    <a:off x="540360" y="579276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flipH="1" flipV="1">
                    <a:off x="377280" y="489276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flipH="1" flipV="1">
                    <a:off x="4320" y="474660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flipV="1">
                    <a:off x="86760" y="489240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flipH="1">
                    <a:off x="534240" y="548784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flipV="1">
                    <a:off x="5760" y="431604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276" name=""/>
            <p:cNvGrpSpPr/>
            <p:nvPr/>
          </p:nvGrpSpPr>
          <p:grpSpPr>
            <a:xfrm>
              <a:off x="1800" y="2141280"/>
              <a:ext cx="5221080" cy="4680000"/>
              <a:chOff x="1800" y="2141280"/>
              <a:chExt cx="5221080" cy="4680000"/>
            </a:xfrm>
          </p:grpSpPr>
          <p:sp>
            <p:nvSpPr>
              <p:cNvPr id="277" name=""/>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rot="19111200">
                <a:off x="3132360" y="308232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0" name=""/>
              <p:cNvSpPr/>
              <p:nvPr/>
            </p:nvSpPr>
            <p:spPr>
              <a:xfrm rot="16512000">
                <a:off x="3093840" y="418464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1" name=""/>
              <p:cNvSpPr/>
              <p:nvPr/>
            </p:nvSpPr>
            <p:spPr>
              <a:xfrm rot="18182400">
                <a:off x="1593000" y="431352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2" name=""/>
              <p:cNvSpPr/>
              <p:nvPr/>
            </p:nvSpPr>
            <p:spPr>
              <a:xfrm rot="20763600">
                <a:off x="1068120" y="281088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283" name=""/>
              <p:cNvGrpSpPr/>
              <p:nvPr/>
            </p:nvGrpSpPr>
            <p:grpSpPr>
              <a:xfrm>
                <a:off x="4728240" y="2141280"/>
                <a:ext cx="494640" cy="493560"/>
                <a:chOff x="4728240" y="2141280"/>
                <a:chExt cx="494640" cy="493560"/>
              </a:xfrm>
            </p:grpSpPr>
            <p:sp>
              <p:nvSpPr>
                <p:cNvPr id="284" name=""/>
                <p:cNvSpPr/>
                <p:nvPr/>
              </p:nvSpPr>
              <p:spPr>
                <a:xfrm rot="2828400">
                  <a:off x="4743720" y="236772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4843080" y="226332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4925880" y="225324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4991040" y="214884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289"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c4c3aa"/>
                </a:solidFill>
                <a:latin typeface="Arial"/>
              </a:rPr>
              <a:t>Click to edit the title text format</a:t>
            </a:r>
            <a:endParaRPr b="0" lang="en-US" sz="5100" spc="-1" strike="noStrike">
              <a:solidFill>
                <a:srgbClr val="c4c3aa"/>
              </a:solidFill>
              <a:latin typeface="Arial"/>
            </a:endParaRPr>
          </a:p>
        </p:txBody>
      </p:sp>
      <p:sp>
        <p:nvSpPr>
          <p:cNvPr id="290"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29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292"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D78AD-C98F-4A35-8E0A-9EC5B576BF86}"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
        <p:nvSpPr>
          <p:cNvPr id="29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00999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bfcb4f"/>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11280" y="188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c4c3aa"/>
                </a:solidFill>
                <a:latin typeface="Arial"/>
              </a:rPr>
              <a:t>Arme Nucleare</a:t>
            </a:r>
            <a:endParaRPr b="0" lang="en-US" sz="5100" spc="-1" strike="noStrike">
              <a:solidFill>
                <a:srgbClr val="c4c3aa"/>
              </a:solidFill>
              <a:latin typeface="Arial"/>
            </a:endParaRPr>
          </a:p>
        </p:txBody>
      </p:sp>
      <p:sp>
        <p:nvSpPr>
          <p:cNvPr id="331" name="PlaceHolder 2"/>
          <p:cNvSpPr>
            <a:spLocks noGrp="1"/>
          </p:cNvSpPr>
          <p:nvPr>
            <p:ph type="subTitle"/>
          </p:nvPr>
        </p:nvSpPr>
        <p:spPr>
          <a:xfrm>
            <a:off x="826920" y="2491920"/>
            <a:ext cx="6400800" cy="1752840"/>
          </a:xfrm>
          <a:prstGeom prst="rect">
            <a:avLst/>
          </a:prstGeom>
          <a:noFill/>
          <a:ln w="0">
            <a:noFill/>
          </a:ln>
        </p:spPr>
        <p:txBody>
          <a:bodyPr lIns="90000" rIns="90000" tIns="46800" bIns="46800" anchor="t">
            <a:noAutofit/>
          </a:bodyPr>
          <a:p>
            <a:pPr>
              <a:spcBef>
                <a:spcPts val="799"/>
              </a:spcBef>
              <a:buClr>
                <a:srgbClr val="c4c3aa"/>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storic</a:t>
            </a:r>
            <a:endParaRPr b="0" lang="en-US" sz="3200" spc="-1" strike="noStrike">
              <a:solidFill>
                <a:srgbClr val="ffffff"/>
              </a:solidFill>
              <a:latin typeface="Verdana"/>
            </a:endParaRPr>
          </a:p>
          <a:p>
            <a:pPr>
              <a:spcBef>
                <a:spcPts val="799"/>
              </a:spcBef>
              <a:buClr>
                <a:srgbClr val="c4c3aa"/>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fecte</a:t>
            </a:r>
            <a:endParaRPr b="0" lang="en-US" sz="3200" spc="-1" strike="noStrike">
              <a:solidFill>
                <a:srgbClr val="ffffff"/>
              </a:solidFill>
              <a:latin typeface="Verdana"/>
            </a:endParaRPr>
          </a:p>
          <a:p>
            <a:pPr>
              <a:spcBef>
                <a:spcPts val="799"/>
              </a:spcBef>
              <a:buClr>
                <a:srgbClr val="c4c3aa"/>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rezent</a:t>
            </a:r>
            <a:endParaRPr b="0" lang="en-US" sz="32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332" name="" descr=""/>
          <p:cNvPicPr/>
          <p:nvPr/>
        </p:nvPicPr>
        <p:blipFill>
          <a:blip r:embed="rId1"/>
          <a:stretch/>
        </p:blipFill>
        <p:spPr>
          <a:xfrm>
            <a:off x="5651640" y="1557360"/>
            <a:ext cx="2949480" cy="4103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3" name="PlaceHolder 1"/>
          <p:cNvSpPr>
            <a:spLocks noGrp="1"/>
          </p:cNvSpPr>
          <p:nvPr>
            <p:ph/>
          </p:nvPr>
        </p:nvSpPr>
        <p:spPr>
          <a:xfrm>
            <a:off x="539640" y="105228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 armă nucleară, numită şi bombă atomică, este o armă tehnicizată extrem de distrugătoare care se bazează pe energia eliberată prin următoarele procese fizice:</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la prima generaţie: bomba atomică: prin fisiune nucleară (realizată iniţial în SUA (1944) şi apoi în URSS)</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la a doua generaţie: (bomba cu hidrogen): prin fisiune, urmată de fuziune nucleară (realizată iniţial în URSS</a:t>
            </a:r>
            <a:r>
              <a:rPr b="0" lang="en-US" sz="2800" spc="-1" strike="noStrike">
                <a:solidFill>
                  <a:srgbClr val="ffffff"/>
                </a:solidFill>
                <a:latin typeface="Verdana"/>
              </a:rPr>
              <a:t>).</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0" y="1341360"/>
            <a:ext cx="9144000" cy="5516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Armele nucleare s-au folosit împotriva oamenilor doar de două ori, şi anume în jurul încheierii celui de-al doilea război mondial, când SUA au aruncat câte o singură bombă atomică cu fisiune asupra oraşelor japoneze Hiroshima şi Nagasaki. Primul eveniment a avut loc în dimineaţa zilei de 6 august 1945, când Statele Unite ale Americii au aruncat un dispozitiv tip pistol, cu uraniu, cu codul „Little Boy” (Băieţelul), asupra oraşului Hiroşima. Al doilea eveniment a avut loc după trei zile, la 9 august 1945, când un dispozitiv tip implozie, cu plutoniu, cu codul „Fat Man” (Grasul), a fost aruncat asupra oraşului Nagasaki. Norul, sau „ciuperca” acestei bombe s-a înălţat mai mult de 18 kilometri deasupra hipocentrului exploziei</a:t>
            </a:r>
            <a:endParaRPr b="0" lang="en-US" sz="2400" spc="-1" strike="noStrike">
              <a:solidFill>
                <a:srgbClr val="ffffff"/>
              </a:solidFill>
              <a:latin typeface="Verdana"/>
            </a:endParaRPr>
          </a:p>
        </p:txBody>
      </p:sp>
      <p:sp>
        <p:nvSpPr>
          <p:cNvPr id="335"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a:buClr>
                <a:srgbClr val="c4c3a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c4c3aa"/>
                </a:solidFill>
                <a:uFillTx/>
                <a:latin typeface="Arial"/>
              </a:rPr>
              <a:t>Istoric</a:t>
            </a:r>
            <a:endParaRPr b="0" lang="en-US" sz="4400" spc="-1" strike="noStrike">
              <a:solidFill>
                <a:srgbClr val="c4c3a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7" name="PlaceHolder 1"/>
          <p:cNvSpPr>
            <a:spLocks noGrp="1"/>
          </p:cNvSpPr>
          <p:nvPr>
            <p:ph/>
          </p:nvPr>
        </p:nvSpPr>
        <p:spPr>
          <a:xfrm>
            <a:off x="0" y="549000"/>
            <a:ext cx="8640720" cy="5373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400" spc="-1" strike="noStrike">
                <a:solidFill>
                  <a:srgbClr val="ffffff"/>
                </a:solidFill>
                <a:latin typeface="Verdana"/>
              </a:rPr>
              <a:t>Folosirea acestor 2 bombe, din care a rezultat moartea imediată a aproximativ 100.000 – 200.000 de oameni (majoritatea civili) şi chiar şi mai mulţi cu trecerea timpului, a fost şi rămâne controversată. Criticii spun că a fost un act de omucidere în masă inutil, în timp ce alţii sunt de părere că de fapt s-a limitat numărul de victime de ambele părţi prin grăbirea sfârşitului războiului şi evitarea unor lupte sângeroase pe teritoriul Japoniei; de asemenea se aduce argumentul reducerii înaintării sovietice (şi comuniste) în Asia drept una din consecinţele acestor bombe.</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pic>
        <p:nvPicPr>
          <p:cNvPr id="338" name="" descr=""/>
          <p:cNvPicPr/>
          <p:nvPr/>
        </p:nvPicPr>
        <p:blipFill>
          <a:blip r:embed="rId1"/>
          <a:stretch/>
        </p:blipFill>
        <p:spPr>
          <a:xfrm>
            <a:off x="0" y="0"/>
            <a:ext cx="9144000" cy="6869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9" name=""/>
          <p:cNvSpPr/>
          <p:nvPr/>
        </p:nvSpPr>
        <p:spPr>
          <a:xfrm>
            <a:off x="0" y="1841760"/>
            <a:ext cx="914400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 atunci pe Pământ au fost detonate peste 2.000 de arme nucleare cu scop de testare şi demonstrare a scopurilor lor. Pe lângă folosirea lor ca arme, explozivele nucleare au fost testate şi folosite şi pentru diverse scopuri nemilitare. Astfel, în Uniunea Sovietică, ele au fost folosite în minerit şi la construirea de canale , minimalizându-se efectul lor nociv pe termen lung.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a:buClr>
                <a:srgbClr val="c4c3a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c4c3aa"/>
                </a:solidFill>
                <a:uFillTx/>
                <a:latin typeface="Arial"/>
              </a:rPr>
              <a:t>Efecte</a:t>
            </a:r>
            <a:endParaRPr b="0" lang="en-US" sz="4400" spc="-1" strike="noStrike">
              <a:solidFill>
                <a:srgbClr val="c4c3aa"/>
              </a:solidFill>
              <a:latin typeface="Arial"/>
            </a:endParaRPr>
          </a:p>
        </p:txBody>
      </p:sp>
      <p:sp>
        <p:nvSpPr>
          <p:cNvPr id="341" name="PlaceHolder 2"/>
          <p:cNvSpPr>
            <a:spLocks noGrp="1"/>
          </p:cNvSpPr>
          <p:nvPr>
            <p:ph/>
          </p:nvPr>
        </p:nvSpPr>
        <p:spPr>
          <a:xfrm>
            <a:off x="0" y="1483920"/>
            <a:ext cx="82296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400" spc="-1" strike="noStrike">
                <a:solidFill>
                  <a:srgbClr val="ffffff"/>
                </a:solidFill>
                <a:latin typeface="Verdana"/>
              </a:rPr>
              <a:t>Consecinţele imediate, directe ale unei explozii nucleare sunt: şoc mecanic, dizlocări mari de teren şi crater; şoc de căldură imens şi incendii; radioactivitate mortală în zona centrală; otrăvire şi contaminare radioactivă a mediului, pe mari suprafeţe şi de lungă durată. Într-o bombă atomică, o bucăţică de uraniu de mărimea unui cubuleţ de zahăr are aceeaşi putere de distrugere ca şi un bloc de exploziv convenţional de mărimea unei case.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pic>
        <p:nvPicPr>
          <p:cNvPr id="34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7T06:24:20Z</dcterms:created>
  <dc:creator>user</dc:creator>
  <dc:description/>
  <dc:language>en-US</dc:language>
  <cp:lastModifiedBy>user</cp:lastModifiedBy>
  <dcterms:modified xsi:type="dcterms:W3CDTF">2011-06-07T06:47:38Z</dcterms:modified>
  <cp:revision>2</cp:revision>
  <dc:subject/>
  <dc:title>Arme Nucleare</dc:title>
</cp:coreProperties>
</file>